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E485-C73D-4613-AA05-51AAC7BBD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D904-A189-4EBD-B270-BDC1B2912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29FD7A-14F0-4F5B-B9D0-9153A9F31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6959DA-B8FA-497D-B4FD-6AA9F2AE6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0B4579-C271-4064-8D89-44805620F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FA0BD0-15AB-4017-87BB-E9239DC56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B19D30-1B11-4BE3-839E-65DFB4CC4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704C55-C485-422E-83BB-FEEAC8C01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23A6E2-5194-4FE1-B918-690D82A14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8BD0DD-75A0-450A-AFA9-ECDA3F076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0C18E0-F1C1-4A7C-9D5E-826B56413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576BC2-B68A-49F9-8D41-41E733A7B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4810-A4F1-4921-A2AD-3CB1C988F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323B80-B8BA-4F90-AF0F-E4FF23D7C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66589E-EE8C-483A-9A70-8868F502A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9BEBB2-E191-4AE4-8C0D-8703EFBA6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795212-7645-4EA9-8CCA-E7FC4B43B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231827-3B6B-4DB1-A601-0B5263525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15ADEE-1157-49F9-B86C-ED8ED71FB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F78C82-56DF-4F5F-91FA-07E3F5EAD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7A66CE-3888-4721-A498-5AE69DBAC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42ABF3-663B-4BE1-ABCE-AFB130C34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FC429C-FBD8-4EF0-B61C-A2F8CA7CF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B76A-7595-47AF-A349-AB4E5A0C5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993466-C393-43D2-9BCB-BF1ED26AC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1B64EE-CE6C-42B9-9C5D-3A75A3259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E8642E-3B35-4863-984C-BC0DDA833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870C88-D3F4-4D9D-91E2-653B752A1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D06AC8-9A6E-406D-A0D4-850541877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C8D246-82D4-4FCC-9919-D5DA64ECA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11922B-C56C-4135-86CE-E716A302C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8DDB85-241B-4941-A633-95DB0A3FE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469726-0E31-4117-A86E-264F9FF8C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3BADB6-947F-4BF0-9221-85F913B99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9A9EE-2981-4066-BCA5-187F54875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3AA8B7-08E0-4B1C-A459-0DD7716FD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C76D82-6CC6-4C29-B496-C30BE60CC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13BC9A-BD05-4E45-A5C7-0CE873F0B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50CC78-5599-4121-94B7-FBF2A5609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36BF8B-70F8-4E82-9DCC-6C630EDE0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ECDFD0-68A5-46CF-BEA4-ABEFBE8F9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40B7BA-9935-4BB9-8DFB-B85B2715D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B4B49A-EED5-488E-AEC7-5DD14CBC4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10B68C-A9CE-40D0-BF8D-874F85493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824C29-5769-4ADF-B581-BFD6F1C0A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0BA71-CDDD-4488-8202-7B7A22C24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90AA7B-8422-4EF0-8ED5-216290F57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0D1871-F1A0-4C73-836A-741CC9C76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150FC8-0C16-4B7C-8287-355D74AF9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CD0600-FDDE-443E-9188-DF138ADBF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C9D47A-A666-4A35-8DBB-713EE51CB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D15DFB-30A3-4D12-B363-9D5E35CF6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E1A25E-BBFF-4095-B654-1BC6191C9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E11A7B-73D8-43F5-AD4D-4233669E7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8896C6-A333-4C03-9CFA-7D07E4F3E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3D4A6C-16B4-4C52-86EC-19C8DFCE4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B25B3-4BE8-4E89-AC19-5DD7866DF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E44540-D0A7-45E9-8A19-34A0A4CD5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98870D-8D6D-45BB-8CB0-1CC4FCE83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CD23CC-5F63-452B-895E-614396C09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8C52B3-1D81-4C0B-8039-A1A568B2F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788C79-FB5A-4151-B202-B94E44637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BC5EBF-5A39-43DD-AF53-E01DB2770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897F08-1285-4337-80E3-62E4F8023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BC4361-FCF5-4D2A-94CA-C00A83F24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3EB9B5-1C82-4AEB-989F-30CDA4D23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DDF257-2A5B-4204-AA92-FE2F613EA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6F35B-C3F4-4076-BCCD-3DA951598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24219A-7250-4F7E-B8DE-6DDB68D81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5B3E0B-9341-4ACD-8A6E-9DE9F730C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FECEE5-A5C2-4BC8-8942-D8BAAC12F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28C123-5964-417E-8870-8B988254F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DAE672-0300-4DAB-A19C-28414D278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5B6D40-91FF-47DE-B363-54283DD9B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096EA9-8E50-417F-A782-2B34A8553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73AD1F-468D-4D00-93D2-C5576B379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310988-6E05-431A-BFBB-4D0FEAAA9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BD5999-1F9B-4F3A-AE3B-30BC66BCD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F3DC8-5BE4-42DF-8B23-CCF9F1D4E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37E62C-96EA-448E-9C59-FCDE85167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B19219-A971-4F0C-8C92-5E4D4A4DC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B74C09-58B2-4485-9052-C37FE957D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59A007-38E5-4CB7-88F0-6F8ADFCA6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CB093B-1F38-432F-B311-778A2762A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389D74-0730-4117-AF67-6A3FE7486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C161A4-E493-4210-B417-73E4848E2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F528E5-F791-45EB-9261-AE2FC2358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602125-D7DC-46C2-B504-C84E3458B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5FDD27-D48D-4505-ADCB-29482DC7D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8C58D-F7B0-4301-9722-D082CC0EF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5B69B6-4A9F-4132-8232-B76E5F441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145A2B-7BA0-46AA-A645-4897B2FA5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6AEC24-0FDF-4C7C-A669-F5F7A6799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C6AEBF-D60B-4DE4-97E7-02215F2AD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F1A5D1-A617-4559-A20C-233E95536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1CB7C2-CDC5-4B6C-A65E-63D6B627C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A53852-6F4B-4401-9977-5D8794C10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12219D-CCB7-4D7B-9335-BE481307E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5FBE58-6E13-412D-9D3F-EB1F53709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876DAA-7E55-4742-818E-B6A284147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35658-95C5-4669-90D8-C6A1DC17E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CA883C-A8AA-47DA-8088-EC27C8DF4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B3223D-BBCD-4B27-9EE8-C365F00D8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0EEBDC-3B40-446F-BB9F-064206EEC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4E7C-CA5E-41AA-8CD4-2F76B2AA2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15058-D12E-4E36-B7A0-B7BDF3CCE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B5D8C-63DE-45CD-A72A-CB7F616B6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AC58D-CB4E-4481-A46E-E92A0BE21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E62AD-6E73-4FF8-9DEB-3A5965C02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87EDF-CCEB-48AD-8775-C3B28D844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1C76D-67F3-49B7-A117-E1AE23B98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EC1F2-004F-4574-B903-364AAD1DA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C5137-E5F0-4912-89C8-8A5C02617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1F46E-899F-4CAC-9F37-CE044BE65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E7083-3CF5-47B2-B274-E00B01E57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5A52-436F-4228-AFCA-CD7491808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BBE4A-631E-4326-9A66-1BD0FF3FF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712EA-7633-492F-9EF3-9EB18D880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6C567-0FD3-4BEE-A287-A75DB9BD1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EB22C-B0C2-4320-BEA5-BDB6F14B3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A7D1D-8FED-418B-8DF6-007AE5AC2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1A404-077F-48EA-9C83-48F298FA8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7263D-59D3-4B65-ABA7-D9A7978E9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BD1C8-EA1D-402F-9FDB-5C7F7952B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4EA64-972F-4164-8974-B327BC4A6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74E8B-D241-4C66-802A-EB2633253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0C59-E7D5-4B3A-8582-3C0C8D256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04A1C-671D-4B61-9EC9-CB605272E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561C4-B37A-459F-81B3-1ABAB90C7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C096C-384B-46C0-A413-0EA2F7069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E9BAF-C470-453D-ADA4-9E75B04D3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D13FC-F749-4688-80A0-51344FDCF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021A6-32AA-4909-B681-097AFDF9A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0397A3-C439-46E1-AB8E-3641AD9CA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0D6B6-5632-4507-B0D5-B87F18649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32F31-B251-4EA2-8746-902B9A541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DD41DC-9948-41A8-B7FE-5FF59D92B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52BE-76C4-4EA4-96C2-5263BB376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4361EF-C888-438A-83C7-5E6BC2FA1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AED1A2-5780-4B10-910B-94C257478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D42916-DC31-43CA-8615-1B4CD8C6A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71E888-A8CC-43AD-B07E-F13F9DEE8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21C0E8-B8F0-4F47-892A-BA7F77326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C33BE7-E4F3-47AE-A327-707E01976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B0653F-7B95-43A9-93BC-966245ABE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D1B03E-99DB-4ED2-8435-0CEDD46B6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00041-AC6C-4E61-9BC3-8606B323A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5AFA03-C1D3-41E4-8481-219713945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F236-7439-4F45-932C-7EE8FF81E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E0EA83-B5FF-4514-8D4D-DC2B43060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E1FE01-C875-43CB-B3CB-084936C8B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70FB04-CCA0-41BB-9912-9AC9E5567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197D82-F2B4-4D33-816E-5B55E6815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0FDD70-32C7-47F3-B0EB-9A1F0CBA6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1F2CDC-6844-48AC-BF99-D1B22B188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044E3A-F01A-406B-AE29-AD8C8E909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676BD7-5C50-4DA5-A926-5948E1A7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B0B3E7-399E-42B6-AAE2-16A33A0CA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826779-B87B-4E84-981F-F7585D9D3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C630-23C6-47E1-879E-5AAE94DC5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531B26-E4CE-4311-9A57-4D9BA525B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E3F92D-55A8-4F4A-B954-D3FC149CA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F4D63F-B0E3-410C-88CF-FA4A03F80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434512-AC0A-44A4-B2C7-65A9D8A69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627B11-E2BD-414E-8333-F7275773F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645E84-0F1E-4917-A837-5CF2A12EA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DBF2F4-7ADC-4CB8-973F-8DDBACBA7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DAB172-8308-4495-98F0-541285DD2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93FA41-822C-4878-BBF2-2BC87DB3D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51C2C9-E3B5-4288-B6B6-F744785FD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053E-39CF-4583-8EA2-4019EF40C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97CB69-C98A-4430-8E02-F0D2E8B18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986367-7C2E-41BC-97CC-D0E111775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749A20-767D-49F7-906D-86220121B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F11DC0-B262-44C7-BA25-FBA7870FA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5738AF-CDDD-4CCE-9946-8F8E99E30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D4B3FE-C1B0-48EE-8CD5-1BAB496FE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973DE8-3FB5-420B-A8D7-DA9E80E59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9A2599-816C-4BBD-BCE3-000309ED8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D388E4-1998-419A-BD1C-B6B831B10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BB6100-25F8-487F-A2B6-269F3CA16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501E-64CB-4538-9381-DF268E63A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8A4763-516F-446F-96F7-84EE30184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9A83F5-9A80-4E47-970A-D2B7EADAF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7A5D9C-966E-4EF3-B2E7-C6F21D2A1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2747B1-8003-4EC4-B359-8798B19AE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EC0595-AF87-45AE-BD18-9B54658FA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D226DF-E9DA-47CF-AB04-4FE7BB680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5BE3A3-6466-47CB-AD95-6046D0755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D3B0CB-1004-46B6-B53E-07367EEC1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0BC306-5B45-4804-803D-B3F967EAF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6F6C2D-BE21-433A-A263-4EC1F7F83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32F66-8F4F-4276-913E-8AD5B86E4B4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9E9B1-D8A6-4B8A-B4CF-F2EDC74703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FD7EC-55E1-4BF7-A33C-B146FF4B7C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304E8-C9EE-486B-88CA-5D593DF0FB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66816-8C36-4A47-98FD-99D0AC5612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0685D-AB76-4AE7-A2F9-8554C251AE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30B60-E008-4278-8CF3-BCE7511888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72BB0-A72B-445B-A196-C007B979CD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EA387-F9C3-49DF-8550-6DA33B8A423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5621B-9C5D-4087-977F-C6B3302585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10"/>
          </p:nvPr>
        </p:nvSpPr>
        <p:spPr>
          <a:xfrm>
            <a:off x="324000" y="544464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12"/>
          </p:nvPr>
        </p:nvSpPr>
        <p:spPr>
          <a:xfrm>
            <a:off x="5724000" y="5013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020A3-1BF8-4A79-8926-121E5340F7F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13"/>
          </p:nvPr>
        </p:nvSpPr>
        <p:spPr>
          <a:xfrm>
            <a:off x="324000" y="544464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sldNum" idx="15"/>
          </p:nvPr>
        </p:nvSpPr>
        <p:spPr>
          <a:xfrm>
            <a:off x="5724000" y="5013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3E991-061B-4081-9052-CDBCFEAA54F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3B70D-8C78-4A43-95BA-E0A810674E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7C0E8-55F8-4337-BC0B-49256662E9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1F98A-944A-4CAE-9BD7-0D3EF0FFB0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1B0D8-AAEB-4D00-B35D-26177FB0EE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矩形 10" descr=""/>
          <p:cNvPicPr/>
          <p:nvPr/>
        </p:nvPicPr>
        <p:blipFill>
          <a:blip r:embed="rId1"/>
          <a:stretch/>
        </p:blipFill>
        <p:spPr>
          <a:xfrm>
            <a:off x="1390680" y="2097000"/>
            <a:ext cx="6242040" cy="2822760"/>
          </a:xfrm>
          <a:prstGeom prst="rect">
            <a:avLst/>
          </a:prstGeom>
          <a:ln w="0">
            <a:noFill/>
          </a:ln>
        </p:spPr>
      </p:pic>
      <p:sp>
        <p:nvSpPr>
          <p:cNvPr id="653" name="直接连接符 8"/>
          <p:cNvSpPr/>
          <p:nvPr/>
        </p:nvSpPr>
        <p:spPr>
          <a:xfrm>
            <a:off x="2195640" y="879480"/>
            <a:ext cx="680400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Picture 2" descr="BAN_051"/>
          <p:cNvPicPr/>
          <p:nvPr/>
        </p:nvPicPr>
        <p:blipFill>
          <a:blip r:embed="rId1"/>
          <a:stretch/>
        </p:blipFill>
        <p:spPr>
          <a:xfrm>
            <a:off x="130320" y="130320"/>
            <a:ext cx="3814560" cy="792000"/>
          </a:xfrm>
          <a:prstGeom prst="rect">
            <a:avLst/>
          </a:prstGeom>
          <a:ln w="0">
            <a:noFill/>
          </a:ln>
        </p:spPr>
      </p:pic>
      <p:sp>
        <p:nvSpPr>
          <p:cNvPr id="655" name="Rectangle 3"/>
          <p:cNvSpPr/>
          <p:nvPr/>
        </p:nvSpPr>
        <p:spPr>
          <a:xfrm>
            <a:off x="-252360" y="115920"/>
            <a:ext cx="39924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华文新魏"/>
                <a:ea typeface="华文新魏"/>
              </a:rPr>
              <a:t>语法焦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TextBox 7"/>
          <p:cNvSpPr/>
          <p:nvPr/>
        </p:nvSpPr>
        <p:spPr>
          <a:xfrm>
            <a:off x="1854360" y="882720"/>
            <a:ext cx="45370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特殊疑问句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Text Box 2"/>
          <p:cNvSpPr/>
          <p:nvPr/>
        </p:nvSpPr>
        <p:spPr>
          <a:xfrm>
            <a:off x="250920" y="1484280"/>
            <a:ext cx="8785080" cy="27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特殊疑问句是就句子中的某一部分提问的句子。它以特殊疑问词开头，它的回答应是“问什么，答什么”，不能用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es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或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来回答，常用的特殊疑问代词有：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ch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ose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o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om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疑问副词有：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等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结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倒装结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疑问词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一般疑问句（语序）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陈述语序：疑问词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谓语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宾语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状语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用陈述语序的结构往往是对主语进行提问，这时疑问词作句子的主语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1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" dur="75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Picture 2" descr="BAN_051"/>
          <p:cNvPicPr/>
          <p:nvPr/>
        </p:nvPicPr>
        <p:blipFill>
          <a:blip r:embed="rId1"/>
          <a:stretch/>
        </p:blipFill>
        <p:spPr>
          <a:xfrm>
            <a:off x="130320" y="130320"/>
            <a:ext cx="3814560" cy="792000"/>
          </a:xfrm>
          <a:prstGeom prst="rect">
            <a:avLst/>
          </a:prstGeom>
          <a:ln w="0">
            <a:noFill/>
          </a:ln>
        </p:spPr>
      </p:pic>
      <p:sp>
        <p:nvSpPr>
          <p:cNvPr id="659" name="Rectangle 3"/>
          <p:cNvSpPr/>
          <p:nvPr/>
        </p:nvSpPr>
        <p:spPr>
          <a:xfrm>
            <a:off x="-252360" y="115920"/>
            <a:ext cx="39924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华文新魏"/>
                <a:ea typeface="华文新魏"/>
              </a:rPr>
              <a:t>语法焦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TextBox 7"/>
          <p:cNvSpPr/>
          <p:nvPr/>
        </p:nvSpPr>
        <p:spPr>
          <a:xfrm>
            <a:off x="1854360" y="882720"/>
            <a:ext cx="45370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特殊疑问句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Text Box 2"/>
          <p:cNvSpPr/>
          <p:nvPr/>
        </p:nvSpPr>
        <p:spPr>
          <a:xfrm>
            <a:off x="250920" y="1484280"/>
            <a:ext cx="8785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疑问词小结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什么都要问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疑问代词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基本含义是“什么”，通常用来询问姓名、物品、数学运算结果或什么时间做什么事等。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可与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de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or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等名词“结盟”，一起来询问某些相对具体的信息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谁见谁爱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o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是疑问代词，它的意思是“谁”，用来询问“人”。在句中可作主语、宾语或表语。当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o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作主语时，句子要用陈述语序，谓语动词多用单数形式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探究竟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是疑问副词，意思是“为什么”，多用来询问原因，回答时多用连词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cause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引导的句子，意为“因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”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1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75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Picture 2" descr="BAN_051"/>
          <p:cNvPicPr/>
          <p:nvPr/>
        </p:nvPicPr>
        <p:blipFill>
          <a:blip r:embed="rId1"/>
          <a:stretch/>
        </p:blipFill>
        <p:spPr>
          <a:xfrm>
            <a:off x="130320" y="130320"/>
            <a:ext cx="3814560" cy="792000"/>
          </a:xfrm>
          <a:prstGeom prst="rect">
            <a:avLst/>
          </a:prstGeom>
          <a:ln w="0">
            <a:noFill/>
          </a:ln>
        </p:spPr>
      </p:pic>
      <p:sp>
        <p:nvSpPr>
          <p:cNvPr id="663" name="Rectangle 3"/>
          <p:cNvSpPr/>
          <p:nvPr/>
        </p:nvSpPr>
        <p:spPr>
          <a:xfrm>
            <a:off x="-252360" y="115920"/>
            <a:ext cx="39924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华文新魏"/>
                <a:ea typeface="华文新魏"/>
              </a:rPr>
              <a:t>语法焦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TextBox 7"/>
          <p:cNvSpPr/>
          <p:nvPr/>
        </p:nvSpPr>
        <p:spPr>
          <a:xfrm>
            <a:off x="1854360" y="882720"/>
            <a:ext cx="45370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特殊疑问句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Text Box 2"/>
          <p:cNvSpPr/>
          <p:nvPr/>
        </p:nvSpPr>
        <p:spPr>
          <a:xfrm>
            <a:off x="250920" y="1484280"/>
            <a:ext cx="8785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疑问词小结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询问时间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是疑问副词，意思是“什么时候”，用来询问时间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询问哪里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是疑问副词，意思是“在哪里”，用来询问地点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询问情况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是疑问副词，意思是“怎样；如何”，用来询问情况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1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" dur="75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Text Box 17"/>
          <p:cNvSpPr/>
          <p:nvPr/>
        </p:nvSpPr>
        <p:spPr>
          <a:xfrm>
            <a:off x="368280" y="836640"/>
            <a:ext cx="8801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句型转换，每空一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I have English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ro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onday to Friday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对画线部分提问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ou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lish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Tom’s math teacher i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r  Brow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对画线部分提问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m’s math teache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I like math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cause it’s interest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对画线部分提问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th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These shoes ar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$2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对画线部分提问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se shoe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His basketball i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der the be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对画线部分提问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is basketball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My favorite subject i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cien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对画线部分提问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our favorite subjec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7" name="Picture 2" descr="BAN_051"/>
          <p:cNvPicPr/>
          <p:nvPr/>
        </p:nvPicPr>
        <p:blipFill>
          <a:blip r:embed="rId1"/>
          <a:stretch/>
        </p:blipFill>
        <p:spPr>
          <a:xfrm>
            <a:off x="130320" y="130320"/>
            <a:ext cx="3814560" cy="792000"/>
          </a:xfrm>
          <a:prstGeom prst="rect">
            <a:avLst/>
          </a:prstGeom>
          <a:ln w="0">
            <a:noFill/>
          </a:ln>
        </p:spPr>
      </p:pic>
      <p:sp>
        <p:nvSpPr>
          <p:cNvPr id="668" name="Rectangle 3"/>
          <p:cNvSpPr/>
          <p:nvPr/>
        </p:nvSpPr>
        <p:spPr>
          <a:xfrm>
            <a:off x="-252360" y="115920"/>
            <a:ext cx="39924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华文新魏"/>
                <a:ea typeface="华文新魏"/>
              </a:rPr>
              <a:t>强化训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矩形 16"/>
          <p:cNvSpPr/>
          <p:nvPr/>
        </p:nvSpPr>
        <p:spPr>
          <a:xfrm>
            <a:off x="468360" y="1519200"/>
            <a:ext cx="6407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When   do      hav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矩形 17"/>
          <p:cNvSpPr/>
          <p:nvPr/>
        </p:nvSpPr>
        <p:spPr>
          <a:xfrm>
            <a:off x="536400" y="2235240"/>
            <a:ext cx="6407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Who    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矩形 27"/>
          <p:cNvSpPr/>
          <p:nvPr/>
        </p:nvSpPr>
        <p:spPr>
          <a:xfrm>
            <a:off x="468360" y="3019320"/>
            <a:ext cx="6407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Why     do      lik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矩形 28"/>
          <p:cNvSpPr/>
          <p:nvPr/>
        </p:nvSpPr>
        <p:spPr>
          <a:xfrm>
            <a:off x="539640" y="3722760"/>
            <a:ext cx="6408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How    much  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矩形 29"/>
          <p:cNvSpPr/>
          <p:nvPr/>
        </p:nvSpPr>
        <p:spPr>
          <a:xfrm>
            <a:off x="611280" y="4508640"/>
            <a:ext cx="6408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Where  i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矩形 30"/>
          <p:cNvSpPr/>
          <p:nvPr/>
        </p:nvSpPr>
        <p:spPr>
          <a:xfrm>
            <a:off x="611280" y="5214960"/>
            <a:ext cx="6408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What  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5" name="Picture 5" descr=""/>
          <p:cNvPicPr/>
          <p:nvPr/>
        </p:nvPicPr>
        <p:blipFill>
          <a:blip r:embed="rId1"/>
          <a:srcRect l="5125" t="5117" r="-760" b="5710"/>
          <a:stretch/>
        </p:blipFill>
        <p:spPr>
          <a:xfrm>
            <a:off x="-108000" y="2465280"/>
            <a:ext cx="9755280" cy="414648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2" descr="BAN_051"/>
          <p:cNvPicPr/>
          <p:nvPr/>
        </p:nvPicPr>
        <p:blipFill>
          <a:blip r:embed="rId2"/>
          <a:stretch/>
        </p:blipFill>
        <p:spPr>
          <a:xfrm>
            <a:off x="130320" y="130320"/>
            <a:ext cx="3814560" cy="792000"/>
          </a:xfrm>
          <a:prstGeom prst="rect">
            <a:avLst/>
          </a:prstGeom>
          <a:ln w="0">
            <a:noFill/>
          </a:ln>
        </p:spPr>
      </p:pic>
      <p:sp>
        <p:nvSpPr>
          <p:cNvPr id="677" name="Rectangle 3"/>
          <p:cNvSpPr/>
          <p:nvPr/>
        </p:nvSpPr>
        <p:spPr>
          <a:xfrm>
            <a:off x="-252360" y="115920"/>
            <a:ext cx="39924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华文新魏"/>
                <a:ea typeface="华文新魏"/>
              </a:rPr>
              <a:t>写作指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矩形 1"/>
          <p:cNvSpPr/>
          <p:nvPr/>
        </p:nvSpPr>
        <p:spPr>
          <a:xfrm>
            <a:off x="755640" y="3467160"/>
            <a:ext cx="82407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Rectangle 19"/>
          <p:cNvSpPr/>
          <p:nvPr/>
        </p:nvSpPr>
        <p:spPr>
          <a:xfrm>
            <a:off x="403200" y="895320"/>
            <a:ext cx="84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Calibri"/>
              </a:rPr>
              <a:t>         </a:t>
            </a:r>
            <a:r>
              <a:rPr b="1" lang="zh-CN" sz="2400" spc="-1" strike="noStrike">
                <a:solidFill>
                  <a:srgbClr val="0070c0"/>
                </a:solidFill>
                <a:latin typeface="Calibri"/>
              </a:rPr>
              <a:t>本单元的话题是描述某人最喜爱的科目及原因。因此，写这类文章时开篇应介绍人；再分别介绍他们分别喜欢的科目并陈述原因；最后作简要的评价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Rectangle 19"/>
          <p:cNvSpPr/>
          <p:nvPr/>
        </p:nvSpPr>
        <p:spPr>
          <a:xfrm>
            <a:off x="900000" y="328284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常用句型归纳如下：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s…favorite subject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，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ecause it is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1" name="Picture 2" descr="BAN_051"/>
          <p:cNvPicPr/>
          <p:nvPr/>
        </p:nvPicPr>
        <p:blipFill>
          <a:blip r:embed="rId1"/>
          <a:stretch/>
        </p:blipFill>
        <p:spPr>
          <a:xfrm>
            <a:off x="130320" y="130320"/>
            <a:ext cx="3814560" cy="792000"/>
          </a:xfrm>
          <a:prstGeom prst="rect">
            <a:avLst/>
          </a:prstGeom>
          <a:ln w="0">
            <a:noFill/>
          </a:ln>
        </p:spPr>
      </p:pic>
      <p:sp>
        <p:nvSpPr>
          <p:cNvPr id="682" name="Rectangle 3"/>
          <p:cNvSpPr/>
          <p:nvPr/>
        </p:nvSpPr>
        <p:spPr>
          <a:xfrm>
            <a:off x="-252360" y="115920"/>
            <a:ext cx="39924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华文新魏"/>
                <a:ea typeface="华文新魏"/>
              </a:rPr>
              <a:t>写作示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Text Box 2"/>
          <p:cNvSpPr/>
          <p:nvPr/>
        </p:nvSpPr>
        <p:spPr>
          <a:xfrm>
            <a:off x="274680" y="836640"/>
            <a:ext cx="861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Arial"/>
                <a:ea typeface="Arial"/>
              </a:rPr>
              <a:t>        </a:t>
            </a:r>
            <a:r>
              <a:rPr b="1" lang="zh-CN" sz="2400" spc="-1" strike="noStrike">
                <a:solidFill>
                  <a:srgbClr val="002060"/>
                </a:solidFill>
                <a:latin typeface="Arial"/>
                <a:ea typeface="Arial"/>
              </a:rPr>
              <a:t>根据表格内的信息写一篇短文，写出他们所喜欢的科目、原因及上课时间。要求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  <a:ea typeface="Arial"/>
              </a:rPr>
              <a:t>:</a:t>
            </a:r>
            <a:r>
              <a:rPr b="1" lang="zh-CN" sz="2400" spc="-1" strike="noStrike">
                <a:solidFill>
                  <a:srgbClr val="002060"/>
                </a:solidFill>
                <a:latin typeface="Arial"/>
                <a:ea typeface="Arial"/>
              </a:rPr>
              <a:t>不能遗漏任何一项，词数在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  <a:ea typeface="Arial"/>
              </a:rPr>
              <a:t>50</a:t>
            </a:r>
            <a:r>
              <a:rPr b="1" lang="zh-CN" sz="2400" spc="-1" strike="noStrike">
                <a:solidFill>
                  <a:srgbClr val="002060"/>
                </a:solidFill>
                <a:latin typeface="Arial"/>
                <a:ea typeface="Arial"/>
              </a:rPr>
              <a:t>词左右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4" name="图片 1" descr=""/>
          <p:cNvPicPr/>
          <p:nvPr/>
        </p:nvPicPr>
        <p:blipFill>
          <a:blip r:embed="rId2"/>
          <a:stretch/>
        </p:blipFill>
        <p:spPr>
          <a:xfrm>
            <a:off x="758880" y="2349360"/>
            <a:ext cx="6692760" cy="23083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Picture 2" descr="BAN_051"/>
          <p:cNvPicPr/>
          <p:nvPr/>
        </p:nvPicPr>
        <p:blipFill>
          <a:blip r:embed="rId1"/>
          <a:stretch/>
        </p:blipFill>
        <p:spPr>
          <a:xfrm>
            <a:off x="130320" y="130320"/>
            <a:ext cx="3814560" cy="792000"/>
          </a:xfrm>
          <a:prstGeom prst="rect">
            <a:avLst/>
          </a:prstGeom>
          <a:ln w="0">
            <a:noFill/>
          </a:ln>
        </p:spPr>
      </p:pic>
      <p:sp>
        <p:nvSpPr>
          <p:cNvPr id="686" name="Rectangle 3"/>
          <p:cNvSpPr/>
          <p:nvPr/>
        </p:nvSpPr>
        <p:spPr>
          <a:xfrm>
            <a:off x="-252360" y="115920"/>
            <a:ext cx="39924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华文新魏"/>
                <a:ea typeface="华文新魏"/>
              </a:rPr>
              <a:t>经典示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TextBox 4"/>
          <p:cNvSpPr/>
          <p:nvPr/>
        </p:nvSpPr>
        <p:spPr>
          <a:xfrm>
            <a:off x="250920" y="1125360"/>
            <a:ext cx="864216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</a:t>
            </a:r>
            <a:r>
              <a:rPr b="1" i="1" lang="en-US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 have three friends. They are Ken</a:t>
            </a:r>
            <a:r>
              <a:rPr b="1" i="1" lang="zh-CN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，</a:t>
            </a:r>
            <a:r>
              <a:rPr b="1" i="1" lang="en-US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elina and Alice. Ken’s favorite subject is P.E. He likes it because it is fun. He has P.E. on Friday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r>
              <a:rPr b="1" i="1" lang="en-US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elina’s favorite subject is history. She thinks it is very interesting. She has history on Monday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r>
              <a:rPr b="1" i="1" lang="en-US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lice likes music best. She likes it because it’s relaxing. She has music on Tuesday and Thursday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r>
              <a:rPr b="1" i="1" lang="en-US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ifferent friends like different subjects. I think we had better help each other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Text Box 4"/>
          <p:cNvSpPr/>
          <p:nvPr/>
        </p:nvSpPr>
        <p:spPr>
          <a:xfrm>
            <a:off x="376200" y="1239840"/>
            <a:ext cx="184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WordArt 5"/>
          <p:cNvSpPr txBox="1"/>
          <p:nvPr/>
        </p:nvSpPr>
        <p:spPr>
          <a:xfrm>
            <a:off x="1600200" y="871560"/>
            <a:ext cx="60958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38160">
                  <a:solidFill>
                    <a:srgbClr val="800080"/>
                  </a:solidFill>
                  <a:miter/>
                </a:ln>
                <a:solidFill>
                  <a:srgbClr val="ffff00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Franklin Gothic Medium"/>
              </a:rPr>
              <a:t>Thank you!</a:t>
            </a:r>
            <a:endParaRPr b="1" lang="en-US" sz="4400" spc="1" strike="noStrike">
              <a:ln w="38160">
                <a:solidFill>
                  <a:srgbClr val="800080"/>
                </a:solidFill>
                <a:miter/>
              </a:ln>
              <a:solidFill>
                <a:srgbClr val="ffff00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Franklin Gothic Medium"/>
              <a:ea typeface="Franklin Gothic Medium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2T12:36:09Z</dcterms:created>
  <dc:creator>Administrator</dc:creator>
  <dc:description/>
  <dc:language>en-US</dc:language>
  <cp:lastModifiedBy>微软用户</cp:lastModifiedBy>
  <dcterms:modified xsi:type="dcterms:W3CDTF">2015-06-13T09:49:08Z</dcterms:modified>
  <cp:revision>250</cp:revision>
  <dc:subject/>
  <dc:title>PowerPoint 演示文稿</dc:title>
</cp:coreProperties>
</file>